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305-26B4-401A-A24E-25C0BAB8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014-7099-4306-A77C-7C7634F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1C6-0B24-440B-A19D-A84372AD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848-6E3F-4228-86D6-E43FB22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BFA-88BA-4FD7-9F97-1D852B84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85D-9F68-4028-B9EE-90FF9F54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4B8-B1BA-46C8-B116-F0065B3D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7ED-0A8A-4C49-B210-93BF5434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ACF-03FE-4842-B060-1462B90D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4AC-A242-44F3-8D44-4028A5A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C8F-B2FD-404A-B370-633194B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367-D661-48A5-A422-79B6C5BB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1BF9-F511-4716-82BD-30BC9F83B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33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ometric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ometric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008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817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981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eometric proof begins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ments, which restate the hypothesis and conclusion of the conjecture.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wo-column 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you list the steps of the proof in the left column. You write the matching reason for each step in the right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676520"/>
            <a:ext cx="823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ll in the blanks to complete the two-column pro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ompleting a Two-Column 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666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3680" y="3200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27120" y="3200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205740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762120" y="3733920"/>
          <a:ext cx="7162560" cy="1823760"/>
        </p:xfrm>
        <a:graphic>
          <a:graphicData uri="http://schemas.openxmlformats.org/drawingml/2006/table">
            <a:tbl>
              <a:tblPr/>
              <a:tblGrid>
                <a:gridCol w="3504960"/>
                <a:gridCol w="3657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iv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Y = X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. of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eg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643040" y="4191120"/>
          <a:ext cx="53352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191120"/>
                    <a:ext cx="533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822560" y="464832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x. Prop. o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84120" y="5094360"/>
            <a:ext cx="1535040" cy="430200"/>
            <a:chOff x="1284120" y="5094360"/>
            <a:chExt cx="1535040" cy="430200"/>
          </a:xfrm>
        </p:grpSpPr>
        <p:graphicFrame>
          <p:nvGraphicFramePr>
            <p:cNvPr id="133" name=""/>
            <p:cNvGraphicFramePr/>
            <p:nvPr/>
          </p:nvGraphicFramePr>
          <p:xfrm>
            <a:off x="1284120" y="5105520"/>
            <a:ext cx="533160" cy="419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284120" y="5105520"/>
                      <a:ext cx="5331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155680" y="5094360"/>
            <a:ext cx="533160" cy="419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55680" y="5094360"/>
                      <a:ext cx="5331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28440" y="51483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295280"/>
            <a:ext cx="87631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l in the blanks to complete a two-column proof of one case of the Congruent Supplements The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supple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4905360" cy="2657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05520" y="401364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.,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7836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377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Subtr. Prop. of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592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184464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you start writing a proof, you should plan out your logic. Sometimes you will be given a plan for a more challenging proof. This plan will detail the major steps of the proof for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819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609480" y="2362320"/>
            <a:ext cx="7854840" cy="1653480"/>
            <a:chOff x="609480" y="2362320"/>
            <a:chExt cx="7854840" cy="1653480"/>
          </a:xfrm>
        </p:grpSpPr>
        <p:sp>
          <p:nvSpPr>
            <p:cNvPr id="149" name=""/>
            <p:cNvSpPr/>
            <p:nvPr/>
          </p:nvSpPr>
          <p:spPr>
            <a:xfrm>
              <a:off x="615600" y="282456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a diagram for a proof is not provided, draw your own and mark the given information on it. But do not mark the information in the Prove statement on i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3623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84360"/>
            <a:ext cx="823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the given plan to write a two-column pro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Writing a Two-Column Proof from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965240"/>
            <a:ext cx="87631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definitions of supplementary and congruent angles and substitution to show that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= 180°. By the definition of supplementary angl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supplement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2767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600200"/>
          <a:ext cx="8610480" cy="4660920"/>
        </p:xfrm>
        <a:graphic>
          <a:graphicData uri="http://schemas.openxmlformats.org/drawingml/2006/table">
            <a:tbl>
              <a:tblPr/>
              <a:tblGrid>
                <a:gridCol w="4997520"/>
                <a:gridCol w="36129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09480" y="2209680"/>
            <a:ext cx="5715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sup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198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384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800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5516640"/>
            <a:ext cx="502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supplemen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038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47894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143000"/>
            <a:ext cx="8305560" cy="46483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whether each statement is true or fals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t two angles are complementary, then they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congru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two angles are congruent to the same angle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they are congruent to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pplementary angles are congruent.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6680" y="29818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45° and 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50160" y="40914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8600" y="51804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60° and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1584360"/>
            <a:ext cx="82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the given plan to write a two-column proof if one case of Congruent Complements Theo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438280"/>
            <a:ext cx="87631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re complement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re complementa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asures of complementary angles add to 90° by definition. Use substitution to show that the sums of both pairs are equal. Use the Subtraction Property and the definition of congruent angles to conclude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61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610480" cy="5257800"/>
        </p:xfrm>
        <a:graphic>
          <a:graphicData uri="http://schemas.openxmlformats.org/drawingml/2006/table">
            <a:tbl>
              <a:tblPr/>
              <a:tblGrid>
                <a:gridCol w="4997520"/>
                <a:gridCol w="361296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09480" y="1676520"/>
            <a:ext cx="5715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re com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are complement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6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590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9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03840" y="2590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comp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505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267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4983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350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255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x. Prop.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tr. Prop. o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6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532160"/>
            <a:ext cx="777240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justification for each step, given that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0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4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4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35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16280" y="3993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Add.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647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ub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5290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6007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Div. Prop. of =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152388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1451880"/>
            <a:ext cx="777240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Use the given plan to write a two-column proof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ve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+ m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la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the linear Pair Theorem to show that the angle pairs are supplementary. Then use the definition of supplementary and substit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809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267080"/>
            <a:ext cx="571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are su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0524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Linear Pair 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181480"/>
            <a:ext cx="4255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= 180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= 180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51055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Def. of supp.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6095880"/>
            <a:ext cx="57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 =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1 + m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60800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ub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94300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two-column proo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geometric theorems by using deductive reason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81080"/>
            <a:ext cx="8382240" cy="12956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-column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8288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writing a proof, it is important to justify each logical step with a reason. You can use symbols and abbreviations, but they must be clear enough so that anyone who reads your proof will understand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4267080"/>
            <a:ext cx="2819160" cy="609840"/>
            <a:chOff x="533520" y="4267080"/>
            <a:chExt cx="2819160" cy="609840"/>
          </a:xfrm>
        </p:grpSpPr>
        <p:sp>
          <p:nvSpPr>
            <p:cNvPr id="67" name=""/>
            <p:cNvSpPr/>
            <p:nvPr/>
          </p:nvSpPr>
          <p:spPr>
            <a:xfrm>
              <a:off x="533520" y="4267080"/>
              <a:ext cx="2057400" cy="60984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4572000"/>
              <a:ext cx="761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800" y="433404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Hypo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629400" y="4245120"/>
            <a:ext cx="2297160" cy="609480"/>
            <a:chOff x="6629400" y="4245120"/>
            <a:chExt cx="2297160" cy="609480"/>
          </a:xfrm>
        </p:grpSpPr>
        <p:sp>
          <p:nvSpPr>
            <p:cNvPr id="71" name=""/>
            <p:cNvSpPr/>
            <p:nvPr/>
          </p:nvSpPr>
          <p:spPr>
            <a:xfrm>
              <a:off x="6629400" y="4245120"/>
              <a:ext cx="2057400" cy="60948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16880" y="42987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363840" y="3722760"/>
            <a:ext cx="3265560" cy="1828800"/>
            <a:chOff x="3363840" y="3722760"/>
            <a:chExt cx="3265560" cy="1828800"/>
          </a:xfrm>
        </p:grpSpPr>
        <p:sp>
          <p:nvSpPr>
            <p:cNvPr id="74" name=""/>
            <p:cNvSpPr/>
            <p:nvPr/>
          </p:nvSpPr>
          <p:spPr>
            <a:xfrm>
              <a:off x="3363840" y="3722760"/>
              <a:ext cx="2514600" cy="1828800"/>
            </a:xfrm>
            <a:prstGeom prst="flowChartTerminator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70120" y="3875040"/>
              <a:ext cx="221004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efin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tu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roper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or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4560840"/>
              <a:ext cx="762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424320" cy="1500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600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justification for each step, given th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re supplementary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4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Writing Jus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429000"/>
            <a:ext cx="556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4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5042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3624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434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supp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029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°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50090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t. Prop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000" y="54100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teps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867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35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847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tr. Prop of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5800" y="2133720"/>
            <a:ext cx="7854840" cy="1653120"/>
            <a:chOff x="685800" y="2133720"/>
            <a:chExt cx="7854840" cy="1653120"/>
          </a:xfrm>
        </p:grpSpPr>
        <p:sp>
          <p:nvSpPr>
            <p:cNvPr id="90" name=""/>
            <p:cNvSpPr/>
            <p:nvPr/>
          </p:nvSpPr>
          <p:spPr>
            <a:xfrm>
              <a:off x="691920" y="2595600"/>
              <a:ext cx="7848720" cy="119124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hen a justification is based on more than the previous step, you can note this after the reason, as in Example 1 Step 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213372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1371600"/>
            <a:ext cx="4114800" cy="1557000"/>
            <a:chOff x="457200" y="1371600"/>
            <a:chExt cx="4114800" cy="1557000"/>
          </a:xfrm>
        </p:grpSpPr>
        <p:sp>
          <p:nvSpPr>
            <p:cNvPr id="94" name=""/>
            <p:cNvSpPr/>
            <p:nvPr/>
          </p:nvSpPr>
          <p:spPr>
            <a:xfrm>
              <a:off x="457200" y="1371600"/>
              <a:ext cx="4114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rite a justification for each step, given tha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AC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25369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08320" y="252576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252576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3200400"/>
            <a:ext cx="5562360" cy="459720"/>
            <a:chOff x="304920" y="3200400"/>
            <a:chExt cx="5562360" cy="459720"/>
          </a:xfrm>
        </p:grpSpPr>
        <p:sp>
          <p:nvSpPr>
            <p:cNvPr id="99" name=""/>
            <p:cNvSpPr/>
            <p:nvPr/>
          </p:nvSpPr>
          <p:spPr>
            <a:xfrm>
              <a:off x="3973680" y="32767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320040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s the midpoi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876920" y="319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3809880"/>
            <a:ext cx="5562360" cy="459720"/>
            <a:chOff x="304920" y="3809880"/>
            <a:chExt cx="5562360" cy="459720"/>
          </a:xfrm>
        </p:grpSpPr>
        <p:sp>
          <p:nvSpPr>
            <p:cNvPr id="103" name=""/>
            <p:cNvSpPr/>
            <p:nvPr/>
          </p:nvSpPr>
          <p:spPr>
            <a:xfrm>
              <a:off x="816120" y="388620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920" y="38098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77880" y="388620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4920" y="4419720"/>
            <a:ext cx="5562360" cy="459720"/>
            <a:chOff x="304920" y="4419720"/>
            <a:chExt cx="5562360" cy="459720"/>
          </a:xfrm>
        </p:grpSpPr>
        <p:sp>
          <p:nvSpPr>
            <p:cNvPr id="107" name=""/>
            <p:cNvSpPr/>
            <p:nvPr/>
          </p:nvSpPr>
          <p:spPr>
            <a:xfrm>
              <a:off x="816120" y="449604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441972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3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77880" y="449604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5029200"/>
            <a:ext cx="5562360" cy="459720"/>
            <a:chOff x="304920" y="5029200"/>
            <a:chExt cx="5562360" cy="459720"/>
          </a:xfrm>
        </p:grpSpPr>
        <p:sp>
          <p:nvSpPr>
            <p:cNvPr id="111" name=""/>
            <p:cNvSpPr/>
            <p:nvPr/>
          </p:nvSpPr>
          <p:spPr>
            <a:xfrm>
              <a:off x="816120" y="51055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502920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4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BC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EF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7880" y="5105520"/>
              <a:ext cx="5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876920" y="380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of md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434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02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2838240" cy="14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5909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ny statement that you can prove. Once you have proven a theorem, you can use it as a reason in later pro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 </cp:lastModifiedBy>
  <dcterms:modified xsi:type="dcterms:W3CDTF">2010-11-02T00:55:44Z</dcterms:modified>
  <cp:revision>141</cp:revision>
  <dc:subject/>
  <dc:title>Slide 1</dc:title>
</cp:coreProperties>
</file>